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4611600" y="1514520"/>
            <a:ext cx="3776760" cy="2814480"/>
          </a:xfrm>
          <a:prstGeom prst="rect">
            <a:avLst/>
          </a:prstGeom>
          <a:solidFill>
            <a:srgbClr val="7bc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755640" y="4417920"/>
            <a:ext cx="7632720" cy="1675080"/>
          </a:xfrm>
          <a:prstGeom prst="rect">
            <a:avLst/>
          </a:prstGeom>
          <a:solidFill>
            <a:srgbClr val="7bcafb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755640" y="1514520"/>
            <a:ext cx="183528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2684520" y="1514520"/>
            <a:ext cx="183492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503280" y="2502000"/>
            <a:ext cx="8137440" cy="25876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2" name="Rounded Rectangle 4"/>
          <p:cNvSpPr/>
          <p:nvPr/>
        </p:nvSpPr>
        <p:spPr>
          <a:xfrm>
            <a:off x="76032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3" name="Rounded Rectangle 5"/>
          <p:cNvSpPr/>
          <p:nvPr/>
        </p:nvSpPr>
        <p:spPr>
          <a:xfrm>
            <a:off x="3336840" y="4340160"/>
            <a:ext cx="24703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4" name="Rounded Rectangle 6"/>
          <p:cNvSpPr/>
          <p:nvPr/>
        </p:nvSpPr>
        <p:spPr>
          <a:xfrm>
            <a:off x="591516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5" name="Rounded Rectangle 7"/>
          <p:cNvSpPr/>
          <p:nvPr/>
        </p:nvSpPr>
        <p:spPr>
          <a:xfrm>
            <a:off x="755640" y="2494080"/>
            <a:ext cx="24685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6" name="Rounded Rectangle 8"/>
          <p:cNvSpPr/>
          <p:nvPr/>
        </p:nvSpPr>
        <p:spPr>
          <a:xfrm>
            <a:off x="3332160" y="2494080"/>
            <a:ext cx="24703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7" name="Rounded Rectangle 9"/>
          <p:cNvSpPr/>
          <p:nvPr/>
        </p:nvSpPr>
        <p:spPr>
          <a:xfrm>
            <a:off x="5910120" y="2494080"/>
            <a:ext cx="246888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3753000" y="4616280"/>
            <a:ext cx="2274840" cy="146700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3753000" y="3067200"/>
            <a:ext cx="2274840" cy="146052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3753000" y="1514520"/>
            <a:ext cx="2274840" cy="146376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6119640" y="4616280"/>
            <a:ext cx="2275200" cy="14670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6119640" y="3067200"/>
            <a:ext cx="2275200" cy="146052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6119640" y="1514520"/>
            <a:ext cx="2275200" cy="14637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ounded Rectangle 3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2" name="Rounded Rectangle 4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3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4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5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c1477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514520"/>
            <a:ext cx="8220240" cy="48816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755640" y="1514520"/>
            <a:ext cx="7632720" cy="4578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4002120" y="1738440"/>
            <a:ext cx="4189320" cy="4128840"/>
            <a:chOff x="4002120" y="1738440"/>
            <a:chExt cx="4189320" cy="4128840"/>
          </a:xfrm>
        </p:grpSpPr>
        <p:sp>
          <p:nvSpPr>
            <p:cNvPr id="197" name="Oval 6"/>
            <p:cNvSpPr/>
            <p:nvPr/>
          </p:nvSpPr>
          <p:spPr>
            <a:xfrm>
              <a:off x="40021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61927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99" name="Oval 8"/>
            <p:cNvSpPr/>
            <p:nvPr/>
          </p:nvSpPr>
          <p:spPr>
            <a:xfrm>
              <a:off x="6192720" y="3868920"/>
              <a:ext cx="19969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200" name="Oval 9"/>
            <p:cNvSpPr/>
            <p:nvPr/>
          </p:nvSpPr>
          <p:spPr>
            <a:xfrm>
              <a:off x="4002120" y="3868920"/>
              <a:ext cx="19987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4660920" y="1514520"/>
            <a:ext cx="3691080" cy="4578480"/>
          </a:xfrm>
          <a:prstGeom prst="rect">
            <a:avLst/>
          </a:prstGeom>
          <a:solidFill>
            <a:srgbClr val="a7dcfd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750960" y="151452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750960" y="267804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50960" y="3841920"/>
            <a:ext cx="3821040" cy="108720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750960" y="5006880"/>
            <a:ext cx="3821040" cy="108612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895480" y="1514520"/>
            <a:ext cx="5492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755640" y="4481640"/>
            <a:ext cx="7632720" cy="1611360"/>
          </a:xfrm>
          <a:prstGeom prst="rect">
            <a:avLst/>
          </a:prstGeom>
          <a:solidFill>
            <a:srgbClr val="a7d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755640" y="1514520"/>
            <a:ext cx="2036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755640" y="1514520"/>
            <a:ext cx="2852640" cy="457848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683160" y="461484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683160" y="151920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683160" y="3067200"/>
            <a:ext cx="4705200" cy="14778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1" descr=""/>
          <p:cNvPicPr/>
          <p:nvPr/>
        </p:nvPicPr>
        <p:blipFill>
          <a:blip r:embed="rId1"/>
          <a:stretch/>
        </p:blipFill>
        <p:spPr>
          <a:xfrm>
            <a:off x="2163600" y="1892160"/>
            <a:ext cx="4734000" cy="36244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-139680" y="343080"/>
            <a:ext cx="9448920" cy="13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4" name="Title 20"/>
          <p:cNvSpPr/>
          <p:nvPr/>
        </p:nvSpPr>
        <p:spPr>
          <a:xfrm>
            <a:off x="420840" y="620640"/>
            <a:ext cx="821988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c1c1c"/>
                </a:solidFill>
                <a:latin typeface="ChunkFive Roman"/>
                <a:ea typeface="Sassoon Infant Rg"/>
              </a:rPr>
              <a:t>Year 6 Grammar Revision</a:t>
            </a:r>
            <a:endParaRPr b="0" lang="en-US" sz="40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25" name="Picture 9" descr=""/>
          <p:cNvPicPr/>
          <p:nvPr/>
        </p:nvPicPr>
        <p:blipFill>
          <a:blip r:embed="rId2"/>
          <a:stretch/>
        </p:blipFill>
        <p:spPr>
          <a:xfrm>
            <a:off x="2646360" y="2408400"/>
            <a:ext cx="3768840" cy="1779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" descr=""/>
          <p:cNvPicPr/>
          <p:nvPr/>
        </p:nvPicPr>
        <p:blipFill>
          <a:blip r:embed="rId3"/>
          <a:stretch/>
        </p:blipFill>
        <p:spPr>
          <a:xfrm>
            <a:off x="3575160" y="1073160"/>
            <a:ext cx="6113520" cy="86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1" descr=""/>
          <p:cNvPicPr/>
          <p:nvPr/>
        </p:nvPicPr>
        <p:blipFill>
          <a:blip r:embed="rId1"/>
          <a:stretch/>
        </p:blipFill>
        <p:spPr>
          <a:xfrm>
            <a:off x="2481120" y="1025640"/>
            <a:ext cx="4938840" cy="54165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" descr=""/>
          <p:cNvPicPr/>
          <p:nvPr/>
        </p:nvPicPr>
        <p:blipFill>
          <a:blip r:embed="rId2"/>
          <a:stretch/>
        </p:blipFill>
        <p:spPr>
          <a:xfrm>
            <a:off x="2690640" y="1657440"/>
            <a:ext cx="3687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itle 1"/>
          <p:cNvSpPr/>
          <p:nvPr/>
        </p:nvSpPr>
        <p:spPr>
          <a:xfrm>
            <a:off x="457200" y="979560"/>
            <a:ext cx="166068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rmAutofit fontScale="8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Singular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8" name="Rounded Rectangle 18"/>
          <p:cNvSpPr/>
          <p:nvPr/>
        </p:nvSpPr>
        <p:spPr>
          <a:xfrm>
            <a:off x="1192320" y="1854360"/>
            <a:ext cx="6750000" cy="75852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he subject and the verb of a sentence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must always agree 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for the sentence to be grammatically correct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ject/Verb Agreement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30" name="Rounded Rectangle 12"/>
          <p:cNvSpPr/>
          <p:nvPr/>
        </p:nvSpPr>
        <p:spPr>
          <a:xfrm>
            <a:off x="1192320" y="5148360"/>
            <a:ext cx="6594480" cy="61596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ingular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(one)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ject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is always followed by the singular form of the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verb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1" name="Title 1"/>
          <p:cNvSpPr/>
          <p:nvPr/>
        </p:nvSpPr>
        <p:spPr>
          <a:xfrm>
            <a:off x="457200" y="3413160"/>
            <a:ext cx="8220240" cy="6444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omas likes milk.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2" name="Title 1"/>
          <p:cNvSpPr/>
          <p:nvPr/>
        </p:nvSpPr>
        <p:spPr>
          <a:xfrm>
            <a:off x="457200" y="4148280"/>
            <a:ext cx="8220240" cy="6444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A hen lays eggs.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3" name="Title 1"/>
          <p:cNvSpPr/>
          <p:nvPr/>
        </p:nvSpPr>
        <p:spPr>
          <a:xfrm>
            <a:off x="1192320" y="2819520"/>
            <a:ext cx="6750000" cy="3902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16640" bIns="11664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hat do you notice about the subject and verb in these sentences?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6989760" y="4738680"/>
            <a:ext cx="2352600" cy="2135160"/>
          </a:xfrm>
          <a:prstGeom prst="rect">
            <a:avLst/>
          </a:prstGeom>
          <a:ln w="0">
            <a:noFill/>
          </a:ln>
        </p:spPr>
      </p:pic>
      <p:sp>
        <p:nvSpPr>
          <p:cNvPr id="635" name="Title 1"/>
          <p:cNvSpPr/>
          <p:nvPr/>
        </p:nvSpPr>
        <p:spPr>
          <a:xfrm>
            <a:off x="457200" y="3414600"/>
            <a:ext cx="8220240" cy="6447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omas</a:t>
            </a:r>
            <a:r>
              <a:rPr b="0" lang="en-GB" sz="36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36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likes</a:t>
            </a:r>
            <a:r>
              <a:rPr b="0" lang="en-GB" sz="36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milk.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6" name="Title 1"/>
          <p:cNvSpPr/>
          <p:nvPr/>
        </p:nvSpPr>
        <p:spPr>
          <a:xfrm>
            <a:off x="457200" y="4148280"/>
            <a:ext cx="8220240" cy="6444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A hen </a:t>
            </a:r>
            <a:r>
              <a:rPr b="0" lang="en-GB" sz="36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lays</a:t>
            </a:r>
            <a:r>
              <a:rPr b="0" lang="en-GB" sz="36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eggs.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itle 1"/>
          <p:cNvSpPr/>
          <p:nvPr/>
        </p:nvSpPr>
        <p:spPr>
          <a:xfrm>
            <a:off x="457200" y="979560"/>
            <a:ext cx="166068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Plural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ject/Verb Agreement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39" name="Rounded Rectangle 12"/>
          <p:cNvSpPr/>
          <p:nvPr/>
        </p:nvSpPr>
        <p:spPr>
          <a:xfrm>
            <a:off x="1192320" y="5148360"/>
            <a:ext cx="7103880" cy="61596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plural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(more than one)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ject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is always followed by the plural form of the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verb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0" name="Title 1"/>
          <p:cNvSpPr/>
          <p:nvPr/>
        </p:nvSpPr>
        <p:spPr>
          <a:xfrm>
            <a:off x="457200" y="2754360"/>
            <a:ext cx="8220240" cy="6444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mice run from the cat.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1" name="Title 1"/>
          <p:cNvSpPr/>
          <p:nvPr/>
        </p:nvSpPr>
        <p:spPr>
          <a:xfrm>
            <a:off x="457200" y="3659040"/>
            <a:ext cx="8220240" cy="6447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children follow the Pied Piper.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2" name="Title 1"/>
          <p:cNvSpPr/>
          <p:nvPr/>
        </p:nvSpPr>
        <p:spPr>
          <a:xfrm>
            <a:off x="1192320" y="1746360"/>
            <a:ext cx="6750000" cy="3888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15200" bIns="1152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hat do you notice about the subject and verb in these sentences?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43" name="Picture 3" descr=""/>
          <p:cNvPicPr/>
          <p:nvPr/>
        </p:nvPicPr>
        <p:blipFill>
          <a:blip r:embed="rId1"/>
          <a:stretch/>
        </p:blipFill>
        <p:spPr>
          <a:xfrm>
            <a:off x="100080" y="4809960"/>
            <a:ext cx="2184480" cy="2048040"/>
          </a:xfrm>
          <a:prstGeom prst="rect">
            <a:avLst/>
          </a:prstGeom>
          <a:ln w="0">
            <a:noFill/>
          </a:ln>
        </p:spPr>
      </p:pic>
      <p:sp>
        <p:nvSpPr>
          <p:cNvPr id="644" name="Title 1"/>
          <p:cNvSpPr/>
          <p:nvPr/>
        </p:nvSpPr>
        <p:spPr>
          <a:xfrm>
            <a:off x="457200" y="2752560"/>
            <a:ext cx="8220240" cy="6447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e mice </a:t>
            </a:r>
            <a:r>
              <a:rPr b="0" lang="en-GB" sz="36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run</a:t>
            </a:r>
            <a:r>
              <a:rPr b="0" lang="en-GB" sz="36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from the cat.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5" name="Title 1"/>
          <p:cNvSpPr/>
          <p:nvPr/>
        </p:nvSpPr>
        <p:spPr>
          <a:xfrm>
            <a:off x="457200" y="3657600"/>
            <a:ext cx="8220240" cy="6444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e children </a:t>
            </a:r>
            <a:r>
              <a:rPr b="0" lang="en-GB" sz="36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follow</a:t>
            </a:r>
            <a:r>
              <a:rPr b="0" lang="en-GB" sz="36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the Pied Piper.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ounded Rectangle 18"/>
          <p:cNvSpPr/>
          <p:nvPr/>
        </p:nvSpPr>
        <p:spPr>
          <a:xfrm>
            <a:off x="855720" y="1442880"/>
            <a:ext cx="3935520" cy="216072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Sassoon Infant Md"/>
              </a:rPr>
              <a:t>To help with correct verb agreement,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Sassoon Infant Md"/>
              </a:rPr>
              <a:t>the basic rule is: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If the subject is singular (one)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he verb must be singular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If the subject is plural (more than one) the verb must be plural. 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ject/Verb Agreement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48" name="Rounded Rectangle 11"/>
          <p:cNvSpPr/>
          <p:nvPr/>
        </p:nvSpPr>
        <p:spPr>
          <a:xfrm>
            <a:off x="851040" y="3887640"/>
            <a:ext cx="3940200" cy="224964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o form the plural of a verb in the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present tense, you should remove the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(or sometimes ‘es’ or ‘ies’) from the singular form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Here are some examples of verbs in their present tense singular and plural form…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5127480" y="1442880"/>
          <a:ext cx="3213360" cy="4694400"/>
        </p:xfrm>
        <a:graphic>
          <a:graphicData uri="http://schemas.openxmlformats.org/drawingml/2006/table">
            <a:tbl>
              <a:tblPr/>
              <a:tblGrid>
                <a:gridCol w="1606680"/>
                <a:gridCol w="160668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Sassoon Infant Md"/>
                        </a:rPr>
                        <a:t>Singular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35cb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Sassoon Infant Md"/>
                        </a:rPr>
                        <a:t>Plural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c14779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become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become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catche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catch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drink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drink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flie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fly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forgive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forgive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goe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go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hide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hide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lead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lead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ride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ride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seek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seek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spring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spring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tear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tear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write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1c1c"/>
                          </a:solidFill>
                          <a:latin typeface="Sassoon Infant Rg"/>
                        </a:rPr>
                        <a:t>write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650" name="Straight Arrow Connector 4"/>
          <p:cNvCxnSpPr/>
          <p:nvPr/>
        </p:nvCxnSpPr>
        <p:spPr>
          <a:xfrm>
            <a:off x="4487760" y="5765400"/>
            <a:ext cx="565920" cy="1080"/>
          </a:xfrm>
          <a:prstGeom prst="straightConnector1">
            <a:avLst/>
          </a:prstGeom>
          <a:ln w="54000">
            <a:solidFill>
              <a:srgbClr val="e3419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ject/Verb Agreement: The Tricky Bit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52" name="Rounded Rectangle 6"/>
          <p:cNvSpPr/>
          <p:nvPr/>
        </p:nvSpPr>
        <p:spPr>
          <a:xfrm>
            <a:off x="960480" y="1555920"/>
            <a:ext cx="7213680" cy="75852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he verb ‘to be’ follows a different rule when it comes to subject/verb agreement. 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he irregular verb forms of ‘to be’ are very commonly misused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3" name="Title 1"/>
          <p:cNvSpPr/>
          <p:nvPr/>
        </p:nvSpPr>
        <p:spPr>
          <a:xfrm>
            <a:off x="758880" y="2647800"/>
            <a:ext cx="7620120" cy="3891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15560" bIns="11556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here there is one subject (singular), the correct use of ‘to be’ is either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is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,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am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or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as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..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4" name="Title 1"/>
          <p:cNvSpPr/>
          <p:nvPr/>
        </p:nvSpPr>
        <p:spPr>
          <a:xfrm>
            <a:off x="758880" y="3371760"/>
            <a:ext cx="2386080" cy="222732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I am/was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He is/was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She is/was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It is/was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5" name="Title 1"/>
          <p:cNvSpPr/>
          <p:nvPr/>
        </p:nvSpPr>
        <p:spPr>
          <a:xfrm>
            <a:off x="2652840" y="3371760"/>
            <a:ext cx="5346720" cy="222732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I am/I was 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feeling excited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He is/He was 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very gentle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She is/She was 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playing tennis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It is/It was 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a bright summer’s day.  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56" name="Picture 1" descr=""/>
          <p:cNvPicPr/>
          <p:nvPr/>
        </p:nvPicPr>
        <p:blipFill>
          <a:blip r:embed="rId1"/>
          <a:stretch/>
        </p:blipFill>
        <p:spPr>
          <a:xfrm>
            <a:off x="7421400" y="3213000"/>
            <a:ext cx="15051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ject/Verb Agreement: The Tricky Bit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58" name="Title 1"/>
          <p:cNvSpPr/>
          <p:nvPr/>
        </p:nvSpPr>
        <p:spPr>
          <a:xfrm>
            <a:off x="758880" y="1444680"/>
            <a:ext cx="7620120" cy="390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17000" bIns="117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In the plural form, the correct use of ‘to be’ is either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are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or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ere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..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9" name="Title 1"/>
          <p:cNvSpPr/>
          <p:nvPr/>
        </p:nvSpPr>
        <p:spPr>
          <a:xfrm>
            <a:off x="960480" y="2270160"/>
            <a:ext cx="2454120" cy="222732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We are/were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You are/were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They are/were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0" name="Title 1"/>
          <p:cNvSpPr/>
          <p:nvPr/>
        </p:nvSpPr>
        <p:spPr>
          <a:xfrm>
            <a:off x="3022560" y="2270160"/>
            <a:ext cx="5560920" cy="222732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We are/We were 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excited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You are/You were 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all in deep trouble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ey are/They were 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playing all day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1" name="Rounded Rectangle 11"/>
          <p:cNvSpPr/>
          <p:nvPr/>
        </p:nvSpPr>
        <p:spPr>
          <a:xfrm>
            <a:off x="1630440" y="4932360"/>
            <a:ext cx="5873760" cy="80640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Now you have revised subject/verb agreement,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could you answer some quick questions on the topic?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62" name="Picture 1" descr=""/>
          <p:cNvPicPr/>
          <p:nvPr/>
        </p:nvPicPr>
        <p:blipFill>
          <a:blip r:embed="rId1"/>
          <a:stretch/>
        </p:blipFill>
        <p:spPr>
          <a:xfrm>
            <a:off x="6997680" y="4264200"/>
            <a:ext cx="203688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1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766440" y="1524960"/>
            <a:ext cx="7611120" cy="14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Which pair of verbs correctly complete the sentences below?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5cbc2"/>
                </a:solidFill>
                <a:latin typeface="Sassoon Infant Md"/>
              </a:rPr>
              <a:t>Mum and Carol ________ certain that they had heard the air-raid siren.</a:t>
            </a:r>
            <a:br>
              <a:rPr sz="1800"/>
            </a:br>
            <a:r>
              <a:rPr b="1" lang="en-GB" sz="1800" spc="-1" strike="noStrike">
                <a:solidFill>
                  <a:srgbClr val="35cbc2"/>
                </a:solidFill>
                <a:latin typeface="Sassoon Infant Md"/>
              </a:rPr>
              <a:t>Carol _____ feeling very frightened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65" name="Group 1"/>
          <p:cNvGrpSpPr/>
          <p:nvPr/>
        </p:nvGrpSpPr>
        <p:grpSpPr>
          <a:xfrm>
            <a:off x="2914560" y="3290760"/>
            <a:ext cx="3305160" cy="2644920"/>
            <a:chOff x="2914560" y="3290760"/>
            <a:chExt cx="3305160" cy="2644920"/>
          </a:xfrm>
        </p:grpSpPr>
        <p:sp>
          <p:nvSpPr>
            <p:cNvPr id="666" name="Rectangle 5"/>
            <p:cNvSpPr/>
            <p:nvPr/>
          </p:nvSpPr>
          <p:spPr>
            <a:xfrm>
              <a:off x="5708520" y="3290760"/>
              <a:ext cx="511200" cy="511200"/>
            </a:xfrm>
            <a:prstGeom prst="rect">
              <a:avLst/>
            </a:prstGeom>
            <a:noFill/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67" name="Rectangle 18"/>
            <p:cNvSpPr/>
            <p:nvPr/>
          </p:nvSpPr>
          <p:spPr>
            <a:xfrm>
              <a:off x="5708520" y="5313600"/>
              <a:ext cx="511200" cy="511200"/>
            </a:xfrm>
            <a:prstGeom prst="rect">
              <a:avLst/>
            </a:prstGeom>
            <a:noFill/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68" name="Rectangle 22"/>
            <p:cNvSpPr/>
            <p:nvPr/>
          </p:nvSpPr>
          <p:spPr>
            <a:xfrm>
              <a:off x="5708520" y="4302000"/>
              <a:ext cx="511200" cy="511200"/>
            </a:xfrm>
            <a:prstGeom prst="rect">
              <a:avLst/>
            </a:prstGeom>
            <a:noFill/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69" name="Content Placeholder 2"/>
            <p:cNvSpPr/>
            <p:nvPr/>
          </p:nvSpPr>
          <p:spPr>
            <a:xfrm>
              <a:off x="2914560" y="5313600"/>
              <a:ext cx="2521080" cy="622080"/>
            </a:xfrm>
            <a:prstGeom prst="roundRect">
              <a:avLst>
                <a:gd name="adj" fmla="val 25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Sassoon Infant Rg"/>
                </a:rPr>
                <a:t>were/was</a:t>
              </a:r>
              <a:endParaRPr b="0" lang="en-US" sz="36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70" name="Content Placeholder 2"/>
            <p:cNvSpPr/>
            <p:nvPr/>
          </p:nvSpPr>
          <p:spPr>
            <a:xfrm>
              <a:off x="2914560" y="4302000"/>
              <a:ext cx="2521080" cy="622080"/>
            </a:xfrm>
            <a:prstGeom prst="roundRect">
              <a:avLst>
                <a:gd name="adj" fmla="val 25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Sassoon Infant Rg"/>
                </a:rPr>
                <a:t>was/are</a:t>
              </a:r>
              <a:endParaRPr b="0" lang="en-US" sz="36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71" name="Content Placeholder 2"/>
            <p:cNvSpPr/>
            <p:nvPr/>
          </p:nvSpPr>
          <p:spPr>
            <a:xfrm>
              <a:off x="2914560" y="3290760"/>
              <a:ext cx="2521080" cy="622080"/>
            </a:xfrm>
            <a:prstGeom prst="roundRect">
              <a:avLst>
                <a:gd name="adj" fmla="val 25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Sassoon Infant Rg"/>
                </a:rPr>
                <a:t>is/was</a:t>
              </a:r>
              <a:endParaRPr b="0" lang="en-US" sz="36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pic>
        <p:nvPicPr>
          <p:cNvPr id="672" name="Picture 8" descr=""/>
          <p:cNvPicPr/>
          <p:nvPr/>
        </p:nvPicPr>
        <p:blipFill>
          <a:blip r:embed="rId1"/>
          <a:stretch/>
        </p:blipFill>
        <p:spPr>
          <a:xfrm>
            <a:off x="5799240" y="5275440"/>
            <a:ext cx="492120" cy="425160"/>
          </a:xfrm>
          <a:prstGeom prst="rect">
            <a:avLst/>
          </a:prstGeom>
          <a:ln w="0">
            <a:noFill/>
          </a:ln>
        </p:spPr>
      </p:pic>
      <p:sp>
        <p:nvSpPr>
          <p:cNvPr id="673" name="Content Placeholder 2"/>
          <p:cNvSpPr/>
          <p:nvPr/>
        </p:nvSpPr>
        <p:spPr>
          <a:xfrm>
            <a:off x="5435640" y="2946240"/>
            <a:ext cx="1036440" cy="27468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5cbc2"/>
                </a:solidFill>
                <a:latin typeface="Sassoon Infant Rg"/>
              </a:rPr>
              <a:t>Tick one</a:t>
            </a:r>
            <a:endParaRPr b="0" lang="en-US" sz="1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2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Choose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 verb in each pair to complete the sentences using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Standard English. 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6" name="Content Placeholder 2"/>
          <p:cNvSpPr/>
          <p:nvPr/>
        </p:nvSpPr>
        <p:spPr>
          <a:xfrm>
            <a:off x="755640" y="289404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Sassoon Infant Rg"/>
              </a:rPr>
              <a:t>We  </a:t>
            </a:r>
            <a:r>
              <a:rPr b="1" lang="en-GB" sz="2800" spc="-1" strike="noStrike">
                <a:solidFill>
                  <a:srgbClr val="ffffff"/>
                </a:solidFill>
                <a:latin typeface="Sassoon Infant Md"/>
              </a:rPr>
              <a:t>is / are </a:t>
            </a:r>
            <a:r>
              <a:rPr b="1" lang="en-GB" sz="2800" spc="-1" strike="noStrike">
                <a:solidFill>
                  <a:srgbClr val="ffffff"/>
                </a:solidFill>
                <a:latin typeface="Sassoon Infant Rg"/>
              </a:rPr>
              <a:t>going on holiday to Spain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7" name="Content Placeholder 2"/>
          <p:cNvSpPr/>
          <p:nvPr/>
        </p:nvSpPr>
        <p:spPr>
          <a:xfrm>
            <a:off x="755640" y="4199040"/>
            <a:ext cx="7632720" cy="15397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Sassoon Infant Rg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Sassoon Infant Rg"/>
              </a:rPr>
              <a:t>I </a:t>
            </a:r>
            <a:r>
              <a:rPr b="1" lang="en-GB" sz="2800" spc="-1" strike="noStrike">
                <a:solidFill>
                  <a:srgbClr val="ffffff"/>
                </a:solidFill>
                <a:latin typeface="Sassoon Infant Md"/>
              </a:rPr>
              <a:t>is / am </a:t>
            </a:r>
            <a:r>
              <a:rPr b="1" lang="en-GB" sz="2800" spc="-1" strike="noStrike">
                <a:solidFill>
                  <a:srgbClr val="ffffff"/>
                </a:solidFill>
                <a:latin typeface="Sassoon Infant Rg"/>
              </a:rPr>
              <a:t>packing my swimming costume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Sassoon Infant Rg"/>
              </a:rPr>
              <a:t>and towel in my suitcase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8" name="Content Placeholder 2"/>
          <p:cNvSpPr/>
          <p:nvPr/>
        </p:nvSpPr>
        <p:spPr>
          <a:xfrm>
            <a:off x="760320" y="289404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Sassoon Infant Rg"/>
              </a:rPr>
              <a:t>We  </a:t>
            </a:r>
            <a:r>
              <a:rPr b="1" lang="en-GB" sz="2800" spc="-1" strike="noStrike">
                <a:solidFill>
                  <a:srgbClr val="ffffff"/>
                </a:solidFill>
                <a:latin typeface="Sassoon Infant Md"/>
              </a:rPr>
              <a:t>is / </a:t>
            </a:r>
            <a:r>
              <a:rPr b="1" lang="en-GB" sz="2800" spc="-1" strike="noStrike">
                <a:solidFill>
                  <a:srgbClr val="35cbc2"/>
                </a:solidFill>
                <a:latin typeface="Sassoon Infant Md"/>
              </a:rPr>
              <a:t>are</a:t>
            </a:r>
            <a:r>
              <a:rPr b="1" lang="en-GB" sz="2800" spc="-1" strike="noStrike">
                <a:solidFill>
                  <a:srgbClr val="ffffff"/>
                </a:solidFill>
                <a:latin typeface="Sassoon Infant M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Sassoon Infant Rg"/>
              </a:rPr>
              <a:t>going on holiday to Spain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9" name="Content Placeholder 2"/>
          <p:cNvSpPr/>
          <p:nvPr/>
        </p:nvSpPr>
        <p:spPr>
          <a:xfrm>
            <a:off x="760320" y="4199040"/>
            <a:ext cx="7632720" cy="15397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Sassoon Infant Rg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Sassoon Infant Rg"/>
              </a:rPr>
              <a:t>I </a:t>
            </a:r>
            <a:r>
              <a:rPr b="1" lang="en-GB" sz="2800" spc="-1" strike="noStrike">
                <a:solidFill>
                  <a:srgbClr val="ffffff"/>
                </a:solidFill>
                <a:latin typeface="Sassoon Infant Md"/>
              </a:rPr>
              <a:t>is / </a:t>
            </a:r>
            <a:r>
              <a:rPr b="1" lang="en-GB" sz="2800" spc="-1" strike="noStrike">
                <a:solidFill>
                  <a:srgbClr val="35cbc2"/>
                </a:solidFill>
                <a:latin typeface="Sassoon Infant Md"/>
              </a:rPr>
              <a:t>am</a:t>
            </a:r>
            <a:r>
              <a:rPr b="1" lang="en-GB" sz="2800" spc="-1" strike="noStrike">
                <a:solidFill>
                  <a:srgbClr val="ffffff"/>
                </a:solidFill>
                <a:latin typeface="Sassoon Infant M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Sassoon Infant Rg"/>
              </a:rPr>
              <a:t>packing my swimming costume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Sassoon Infant Rg"/>
              </a:rPr>
              <a:t>and towel in my suitcase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3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Complete each sentence by adding the correct subjects to these sentences: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2" name="Content Placeholder 2"/>
          <p:cNvSpPr/>
          <p:nvPr/>
        </p:nvSpPr>
        <p:spPr>
          <a:xfrm>
            <a:off x="755640" y="3186000"/>
            <a:ext cx="7632720" cy="43668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____________ enjoy playing board games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3" name="Content Placeholder 2"/>
          <p:cNvSpPr/>
          <p:nvPr/>
        </p:nvSpPr>
        <p:spPr>
          <a:xfrm>
            <a:off x="755640" y="391968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The ____________ were parked outside the bus station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4" name="Rounded Rectangle 25"/>
          <p:cNvSpPr/>
          <p:nvPr/>
        </p:nvSpPr>
        <p:spPr>
          <a:xfrm>
            <a:off x="1674720" y="2157480"/>
            <a:ext cx="5784840" cy="60156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Sassoon Infant Md"/>
              </a:rPr>
              <a:t>coach    Sid and Violet    bicycles    Marcie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5" name="Content Placeholder 2"/>
          <p:cNvSpPr/>
          <p:nvPr/>
        </p:nvSpPr>
        <p:spPr>
          <a:xfrm>
            <a:off x="755640" y="3186000"/>
            <a:ext cx="1515960" cy="48600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5cbc2"/>
                </a:solidFill>
                <a:latin typeface="Sassoon Infant Md"/>
              </a:rPr>
              <a:t>Sid and Viole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6" name="Content Placeholder 2"/>
          <p:cNvSpPr/>
          <p:nvPr/>
        </p:nvSpPr>
        <p:spPr>
          <a:xfrm>
            <a:off x="755640" y="465300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The ____________ was stuck in a traffic jam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7" name="Content Placeholder 2"/>
          <p:cNvSpPr/>
          <p:nvPr/>
        </p:nvSpPr>
        <p:spPr>
          <a:xfrm>
            <a:off x="755640" y="5388120"/>
            <a:ext cx="7632720" cy="4363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____________ works hard during maths lessons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8" name="Content Placeholder 2"/>
          <p:cNvSpPr/>
          <p:nvPr/>
        </p:nvSpPr>
        <p:spPr>
          <a:xfrm>
            <a:off x="755640" y="5388120"/>
            <a:ext cx="1515960" cy="48564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5cbc2"/>
                </a:solidFill>
                <a:latin typeface="Sassoon Infant Md"/>
              </a:rPr>
              <a:t>Marcie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9" name="Content Placeholder 2"/>
          <p:cNvSpPr/>
          <p:nvPr/>
        </p:nvSpPr>
        <p:spPr>
          <a:xfrm>
            <a:off x="1212840" y="4651200"/>
            <a:ext cx="1515960" cy="48600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5cbc2"/>
                </a:solidFill>
                <a:latin typeface="Sassoon Infant Md"/>
              </a:rPr>
              <a:t>coach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0" name="Content Placeholder 2"/>
          <p:cNvSpPr/>
          <p:nvPr/>
        </p:nvSpPr>
        <p:spPr>
          <a:xfrm>
            <a:off x="1212840" y="3914640"/>
            <a:ext cx="1515960" cy="48600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5cbc2"/>
                </a:solidFill>
                <a:latin typeface="Sassoon Infant Md"/>
              </a:rPr>
              <a:t>bicycles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09:27Z</dcterms:created>
  <dc:creator>Twinkl</dc:creator>
  <dc:description/>
  <dc:language>en-US</dc:language>
  <cp:lastModifiedBy>Jon Seaton</cp:lastModifiedBy>
  <dcterms:modified xsi:type="dcterms:W3CDTF">2016-04-08T12:21:37Z</dcterms:modified>
  <cp:revision>170</cp:revision>
  <dc:subject/>
  <dc:title>Geography</dc:title>
</cp:coreProperties>
</file>